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134-7155-4DDF-9A7C-FB9B6615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07C0-FB52-4DBC-9DE0-E8C06B38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146-3936-4CF3-A7FB-81FFB5AA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F95-2C73-4BEB-8A02-A538B950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26E-B95B-4F59-84F9-02989C1E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376-CDBA-4E9E-8C33-B893ADBA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1A5-44D2-4E57-BC15-8775AE33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8F6-5F04-4217-BDBB-7B46E6C5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576-F50F-41C9-BE33-3C99763D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6FA-5B8F-4F86-8AFC-941473EE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4E7-9B69-4AF8-BDEF-C46F1C11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77BB-7B47-4F72-8B61-05E4988F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504D-DCE2-49BE-AD69-8E93D2CCB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TODA BACKTRAC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11a3</cp:lastModifiedBy>
  <dcterms:modified xsi:type="dcterms:W3CDTF">2012-06-19T10:46:54Z</dcterms:modified>
  <cp:revision>32</cp:revision>
  <dc:subject/>
  <dc:title>SALARIUL</dc:title>
</cp:coreProperties>
</file>